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B0B1-D1B0-4666-9B53-3A066C4077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2857680" y="520920"/>
            <a:ext cx="3428280" cy="257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2E3-0AFD-4087-9C23-2320FACF34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2FA9-5BEF-448A-A7CD-1A1AB9EECF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F26-5654-4A67-BA3A-FD270B1AE0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8CF-5F63-465B-ABCB-6624F1FA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2D0-F545-4DFF-A292-5EB30607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97A-D486-4C00-A17E-CDD2F69D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B96-DC94-4679-BAF0-38B32D3F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000-C1B1-44EB-B57E-547955C2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E8D-53EB-4D51-AEAB-8652A1A5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9FE-D1C3-4B04-AA12-7EF1F46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4F7-8EBE-4BCD-A4E7-5291767B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636-9307-4A26-B247-720C49EA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ED8-46FA-42CA-82D3-D4FF08B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209-EDFC-4316-BEE1-F335083B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80D-E84F-4FC3-B1B0-84F394AE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7F7C-0AC8-4A31-929E-40081F5805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al Studies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ffff"/>
                </a:solidFill>
                <a:uFillTx/>
                <a:latin typeface="Tahoma"/>
              </a:rPr>
              <a:t>The Road to Self-Governmen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ibe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roups of colonists who organized protests against the British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a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rote articles against the Stamp Act, then created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ib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October of 1765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lon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demanded that the Stamp Act                     be repealed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nce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year later, Parlia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led the Stamp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5" descr="Portrait of Samuel Adams"/>
          <p:cNvPicPr/>
          <p:nvPr/>
        </p:nvPicPr>
        <p:blipFill>
          <a:blip r:embed="rId1"/>
          <a:stretch/>
        </p:blipFill>
        <p:spPr>
          <a:xfrm>
            <a:off x="6380280" y="2286000"/>
            <a:ext cx="276372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Troubles in Bos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hen passed the Townshend 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nshend Acts – the colonists had to pay taxes on all tea, paper, glass, lead, and paint that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por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Bri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deci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ycot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not buy) the British goods that were ta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led to grea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io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rotests, the largest was The Boston Massac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fter the Boston Massacre, Parliament repealed the Townshend acts, but it kept the tax on te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olonists united to fight the Tea A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8" descr="http://alexanderstreet.typepad.com/.a/6a00d8341c1bf053ef01156f60fc43970c-800wi"/>
          <p:cNvPicPr/>
          <p:nvPr/>
        </p:nvPicPr>
        <p:blipFill>
          <a:blip r:embed="rId1"/>
          <a:stretch/>
        </p:blipFill>
        <p:spPr>
          <a:xfrm>
            <a:off x="2209680" y="2590920"/>
            <a:ext cx="4953240" cy="3800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oston Tea Part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773, British ships carrying thousand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ea across the Atlantic Ocean to Boston were docked in the Boston Harbo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disguised                              themselves and                                            board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hi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                                               the middle of night                                            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mp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tea                                             into the sea to                                                  protest the tea ta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BostonTeaParty"/>
          <p:cNvPicPr/>
          <p:nvPr/>
        </p:nvPicPr>
        <p:blipFill>
          <a:blip r:embed="rId1"/>
          <a:stretch/>
        </p:blipFill>
        <p:spPr>
          <a:xfrm>
            <a:off x="5181480" y="2895480"/>
            <a:ext cx="3821400" cy="3302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Happenings in Bos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The_Boston_Massacre_and_the_Boston_Tea_Party.mp4" descr=""/>
          <p:cNvPicPr/>
          <p:nvPr/>
        </p:nvPicPr>
        <p:blipFill>
          <a:blip r:embed="rId1"/>
          <a:stretch/>
        </p:blipFill>
        <p:spPr>
          <a:xfrm>
            <a:off x="1143000" y="1368360"/>
            <a:ext cx="71629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Boston Tea Party, Parliament closed Bosto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Harb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known as The British Por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passed the Quartering Act, which ordered the colonist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u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ritish soldier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called these actions the                                           Intolerable A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8" descr="http://allthingsliberty.com/wp-content/uploads/2013/06/intolerablefeatured.jpg"/>
          <p:cNvPicPr/>
          <p:nvPr/>
        </p:nvPicPr>
        <p:blipFill>
          <a:blip r:embed="rId1"/>
          <a:stretch/>
        </p:blipFill>
        <p:spPr>
          <a:xfrm>
            <a:off x="1981080" y="4495680"/>
            <a:ext cx="4419720" cy="1695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Bind Togeth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this time, colonists began to connect with an idea of Patriot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anted America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its ow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count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soon this led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v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http://o.quizlet.com/i/n3bWbij1TxJLi7Fy2yDAxA_m.jpg"/>
          <p:cNvPicPr/>
          <p:nvPr/>
        </p:nvPicPr>
        <p:blipFill>
          <a:blip r:embed="rId1"/>
          <a:stretch/>
        </p:blipFill>
        <p:spPr>
          <a:xfrm>
            <a:off x="5638680" y="3200400"/>
            <a:ext cx="2590920" cy="3397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ransient"/>
          <p:cNvPicPr/>
          <p:nvPr/>
        </p:nvPicPr>
        <p:blipFill>
          <a:blip r:embed="rId1"/>
          <a:stretch/>
        </p:blipFill>
        <p:spPr>
          <a:xfrm>
            <a:off x="5257800" y="4127400"/>
            <a:ext cx="3524400" cy="260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Plans For Government in the Colonies, 1600’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20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yflower Comp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 written agreement to make laws for the Plymouth colony,  meant to keep the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f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by the Separatists, who were flee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ligi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secution from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ey would work together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ed by 4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ativ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Mayfl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2280" y="237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Penn was given land by King Charles II for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Quaker colo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a place where they could practice their religious beliefs in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82 – Pennsylvania Fra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Government – A writ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for government t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t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ligious freedo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, and organiz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s of people to cre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http://media-2.web.britannica.com/eb-media/38/91538-004-503731F9.jpg"/>
          <p:cNvPicPr/>
          <p:nvPr/>
        </p:nvPicPr>
        <p:blipFill>
          <a:blip r:embed="rId1"/>
          <a:stretch/>
        </p:blipFill>
        <p:spPr>
          <a:xfrm>
            <a:off x="5778360" y="2438280"/>
            <a:ext cx="3079800" cy="3829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708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The Virginia House of Burgesse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19– The Virginia Company establishes the Ho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rges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first legislative assembly in America, simila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met together to discuss ways to keep the colon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sper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res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people in their t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9" descr="http://www.socialstudiesforkids.com/graphics/houseofburgesses2.jpg"/>
          <p:cNvPicPr/>
          <p:nvPr/>
        </p:nvPicPr>
        <p:blipFill>
          <a:blip r:embed="rId1"/>
          <a:stretch/>
        </p:blipFill>
        <p:spPr>
          <a:xfrm>
            <a:off x="487440" y="3559320"/>
            <a:ext cx="7970760" cy="3174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es had been growing larger and learn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overn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lia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Britain’s law-making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embl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law-making bo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47280" y="759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olonial 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6" descr="http://www.history.org/almanack/places/hb/images/capitolburgesses.jpg"/>
          <p:cNvPicPr/>
          <p:nvPr/>
        </p:nvPicPr>
        <p:blipFill>
          <a:blip r:embed="rId1"/>
          <a:stretch/>
        </p:blipFill>
        <p:spPr>
          <a:xfrm>
            <a:off x="2286000" y="3581280"/>
            <a:ext cx="463860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ws affect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lony were made by the colonial assem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wn mee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group of male colonists who got together to solve lo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http://williampennhouse.org/sites/default/files/quaker%20meeting%202.jpg"/>
          <p:cNvPicPr/>
          <p:nvPr/>
        </p:nvPicPr>
        <p:blipFill>
          <a:blip r:embed="rId1"/>
          <a:stretch/>
        </p:blipFill>
        <p:spPr>
          <a:xfrm>
            <a:off x="2733840" y="2438280"/>
            <a:ext cx="352404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The 13 Colonies Begin to Reb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rench and Indian War ends with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oclam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176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d that colonists could not move past the Appalachian Mountains, for that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ricans’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reality, they didn’t w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to get mo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http://upload.wikimedia.org/wikipedia/commons/thumb/3/38/Map_of_territorial_growth_1775.svg/506px-Map_of_territorial_growth_1775.svg.png"/>
          <p:cNvPicPr/>
          <p:nvPr/>
        </p:nvPicPr>
        <p:blipFill>
          <a:blip r:embed="rId1"/>
          <a:stretch/>
        </p:blipFill>
        <p:spPr>
          <a:xfrm>
            <a:off x="6518160" y="3398760"/>
            <a:ext cx="2625840" cy="3435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ugar_Act__Stamp_Act__and_Townshend_Acts.mp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553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England Tightens It’s Gr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ct – (1765) British law placing taxes on th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ve power of the government (who could give taxes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d them to begin to feel their rights had b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iol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s they could send no representative to Englis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Taxation without Represent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0:39:25Z</dcterms:created>
  <dc:creator>Catch211</dc:creator>
  <dc:description/>
  <dc:language>en-US</dc:language>
  <cp:lastModifiedBy>Weiman, Gabrielle R</cp:lastModifiedBy>
  <cp:lastPrinted>2014-10-13T12:38:22Z</cp:lastPrinted>
  <dcterms:modified xsi:type="dcterms:W3CDTF">2014-10-13T19:09:21Z</dcterms:modified>
  <cp:revision>63</cp:revision>
  <dc:subject/>
  <dc:title>Social Studies Chapter 11</dc:title>
</cp:coreProperties>
</file>